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554-42AB-4525-858C-34EF961B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A9A-7615-4ACA-B19F-792AC44F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1D0-72A9-44F5-AEBC-57EE9D06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548-4FC7-41EA-8F9D-E8560975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6935-B3CB-47EF-AA2F-135D0840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A579-FFEA-409E-B35A-CC6EF24C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7BE8-B6AB-46E1-919F-B3E359B2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F1D8-3F47-4821-8EC8-A33B6987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394E-4029-45BC-B4F9-3E56C060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E201-ADAA-402B-9149-814BF74B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9E86-E28D-4849-918A-9678F4A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9B3-DB01-42A8-99AB-8D6E738F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841F-096C-467A-A07D-962F2958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622C-EC31-4FCC-8DFA-26C674FA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E64C-E455-4F80-85EA-9C6664F4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6515-9466-42AF-AE39-94921EA8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D449-92AE-4BB5-AC75-1193AAE4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12C-1D29-4671-A312-CB3CF024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2C8-3E98-4391-AB5F-8BAC3939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017-823E-48E6-833C-22C67753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15D-49C9-4C66-8B8C-399C54B2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5AF-CBA5-4BD6-A62C-82C2FE80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E32-3DC5-49EB-A41C-4504E716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2F3-894A-4E32-BCC9-86EA9897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1434-B6DA-492B-8C69-FFE207A69B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68D-A2D6-4438-BC75-EA7CCCAD28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12:8 – 14: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3-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352680"/>
            <a:ext cx="7925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- Weaknesses And Strength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(Judges 14:1-20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nticed his wife to get the interpretation of the riddle, v. 15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succ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nformed the comp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ave the answer to Sam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s incensed with his wife and his companions, v.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w 30 Philistines for their clot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nt back home to Zor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ife was given to his “best man”, v.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 – the next lesson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tries to get his wif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vengeance on the Phili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8195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hr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124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mon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ephthah’s Clash With Ephraimite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2:1-7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raimites incensed: Jephthah did not call them to war against the Amm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reaten his destruction, v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vindicates himself, v. 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harge against the Gileadites, v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wo adversaries fought, v.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y-two thousand Ephraimites killed at the passages of Jordan, v. 5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phthah died; judged Israel six years, v.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791320" y="76212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phrai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5880" y="228600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ile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560" y="1295280"/>
            <a:ext cx="2971800" cy="259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28640" y="2743200"/>
            <a:ext cx="243828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Next Three Judges -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2:8-1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’zan: judged for seven years, v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’lon: judged ten years and dies, v. 1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n: judged for eight years, v.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14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Coming Judge –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3:1-2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ites - evil again - delivered into the hands of the Philistines for forty years, v.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ngel appeared to the wife of Ma’no’ah; foretells the birth of a son, v.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ed her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treat both herself and her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e would do later in his life, v. 2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informed her husband, v. 6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prayed for the angel to reappear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repeated his former instructions, v. 8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made an offering to the Lord; the angel ascended up in the flame, v. 15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oah is alarmed, but comforted by the judicious reflections of his wife, v. 21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born; the spirit of the Lord began to move him, v. 24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Coming Judge –</a:t>
            </a:r>
            <a:br>
              <a:rPr sz="40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Judges 13:1-25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29200" y="47242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72428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267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n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3352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733920"/>
            <a:ext cx="2286000" cy="129528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572000"/>
            <a:ext cx="2286000" cy="609480"/>
          </a:xfrm>
          <a:prstGeom prst="line">
            <a:avLst/>
          </a:prstGeom>
          <a:ln w="5724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- Weaknesses And Strength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(Judges 14:1-20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 desires a Philistine for a wife, v. 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w a young lion at Tim’nath: later, he found bees and honey in the carcass, v. 5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son’s father went to prepare for the marriage, v. 10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son made a f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de’s parents gave him thirty comp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uts forth a riddle to them which they could not exp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5:49:30Z</dcterms:created>
  <dc:creator>Terry W. Benton</dc:creator>
  <dc:description/>
  <dc:language>en-US</dc:language>
  <cp:lastModifiedBy>Frank D Vines</cp:lastModifiedBy>
  <dcterms:modified xsi:type="dcterms:W3CDTF">2005-02-27T05:44:07Z</dcterms:modified>
  <cp:revision>13</cp:revision>
  <dc:subject/>
  <dc:title>In The Days of the Judges</dc:title>
</cp:coreProperties>
</file>